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292-600A-4F26-9CC7-5E0221E1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A20-C4E6-4268-A1DD-7C4628F1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BEA-95D8-49E7-8F6D-0DD3E024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DE9-089D-4BD7-B6A2-F4561B51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F93-5DB8-478E-A37C-BEB69610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B67-FED3-46CC-9CF5-04068D7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C51-C72B-4AB6-A014-81C42E9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CBD-48BA-46D1-9926-66EB1F51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AEC-4035-4C3B-A890-AB25BD3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CAF-0CFA-421E-8A8E-48D6F97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C05-E935-4CFA-AF44-7B5166D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DE5-56AF-4AD8-BFA1-D4E6669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9A0-1C8E-4F87-8FBD-69D41827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4:35:05Z</dcterms:created>
  <dc:creator>Patrick J. Mooney</dc:creator>
  <dc:description/>
  <dc:language>en-US</dc:language>
  <cp:lastModifiedBy>Patrick J. Mooney</cp:lastModifiedBy>
  <dcterms:modified xsi:type="dcterms:W3CDTF">2011-11-29T04:36:43Z</dcterms:modified>
  <cp:revision>1</cp:revision>
  <dc:subject/>
  <dc:title>Slide 1</dc:title>
</cp:coreProperties>
</file>